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D80-9D5E-4FC3-A2EB-FAE03769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89B-183C-4F12-A01F-CFCED2F5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94C-2669-4F7D-883D-8F8DF251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95C-77A7-4D23-8D59-4EB3FE7C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49B-9DA7-46BF-9211-E0C041B2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E13-5846-45E6-82B1-CA58D406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1AE-327F-42E2-A47F-0FDFC825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C94-FAA9-4094-A6DA-B7821C49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A04-BB78-410A-AF33-AF47EEE4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812-2929-4727-B3A7-9DA7A935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F2B-3777-4552-8B40-11F585E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80E-6CAC-4C18-97DA-02493C2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F7E5-FCE9-4068-ACF4-59048C2A1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26744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4191120" cy="313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0600" y="1332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320" y="2286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264960"/>
            <a:ext cx="4267440" cy="285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24280" y="763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4191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203040"/>
            <a:ext cx="4343400" cy="292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361944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05520" y="3581280"/>
            <a:ext cx="3625560" cy="3206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76920" y="82440"/>
            <a:ext cx="40384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191120" cy="279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225360"/>
            <a:ext cx="4343400" cy="2898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00600" y="311040"/>
            <a:ext cx="4267080" cy="27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724280" y="3733920"/>
            <a:ext cx="42674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24280" y="274680"/>
            <a:ext cx="4267440" cy="292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2674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2-20T18:04:31Z</dcterms:modified>
  <cp:revision>11</cp:revision>
  <dc:subject/>
  <dc:title>Slide 1</dc:title>
</cp:coreProperties>
</file>